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D96-E88F-4C10-A0D6-9E4A9AA3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AB9-0F13-4BD6-AC70-1722898D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F83-41DD-408D-8DD9-FC74B715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37E-08D5-4D41-824F-2AD762F9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1F6-2B45-4F68-B677-B792826C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B47-2CBD-4C15-A835-6A9E5E86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05B9-BC8E-4C88-99A4-93333AC9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80A-5413-4B40-A7DA-83CB41B2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AF0-17CB-4D89-A564-27CEB87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D88-1497-4750-B7C7-0911637F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EDE-68A3-42E0-8A77-4CD57451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CA0-588E-4AB5-B414-A332265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F230-B9F5-4F09-BCE4-AA394A317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71680" y="1928880"/>
            <a:ext cx="81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Calibri"/>
                <a:ea typeface="Arial"/>
              </a:rPr>
              <a:t>Произведения об ос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Чайковский Осенняя песня.mp3" descr=""/>
          <p:cNvPicPr/>
          <p:nvPr/>
        </p:nvPicPr>
        <p:blipFill>
          <a:blip r:embed="rId2"/>
          <a:stretch/>
        </p:blipFill>
        <p:spPr>
          <a:xfrm>
            <a:off x="4267080" y="342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0" y="18572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1"/>
          <a:stretch/>
        </p:blipFill>
        <p:spPr>
          <a:xfrm>
            <a:off x="1341360" y="0"/>
            <a:ext cx="707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4"/>
          <p:cNvSpPr/>
          <p:nvPr/>
        </p:nvSpPr>
        <p:spPr>
          <a:xfrm>
            <a:off x="0" y="18572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857160" y="189000"/>
            <a:ext cx="74296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0" y="18572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0" y="809640"/>
            <a:ext cx="671508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амые мягкие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трогате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стихи, книги и картины написаны русскими поэтами, писателями и художниками об осени . Левитан ждал осени, как самого дорогого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мимолёт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ремени года . Осень снимала с лесов, с полей, со всей природы густые цвета, смывала  дождями  зелень рощ. Делалис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квоз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тёмные краски лета , сменялись  робким  золотом,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урпур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и серебром .  Изменялся  не только  цвет  земли, но и самый воздух. Он  был чище,  холоднее, и дали были гораздо глубже,  чем  летом .  Осень на картинах  Левитана очен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разнообраз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. 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0" y="285840"/>
            <a:ext cx="6643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6715080" y="952560"/>
            <a:ext cx="214164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6669000" y="3579840"/>
            <a:ext cx="228456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0" y="809640"/>
            <a:ext cx="671508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амые мягкие и трогательные стихи, книги и картины написаны русскими поэтами, писателями и художниками об осени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евитан ждал осени, как самого дорогого и мимолётного времени года . Осень снимала с лесов, с полей, со всей природы густые цвета, смывала  дождями  зелень рощ.. Делались сквозными тёмные краски лета , сменялись  робким  золотом,  пурпуром и серебром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зменялся  не только  цвет  земли, но и самый воздух.  Он  был чище,  холоднее, и дали были гораздо глубже,  чем  летом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сень на картинах  Левитана очень разнообраз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К. Г.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0" y="285840"/>
            <a:ext cx="6643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6715080" y="2000160"/>
            <a:ext cx="2141640" cy="200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6643800" y="4214880"/>
            <a:ext cx="228420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5:03:28Z</dcterms:created>
  <dc:creator>Галина</dc:creator>
  <dc:description/>
  <dc:language>en-US</dc:language>
  <cp:lastModifiedBy>Пользователь Windows</cp:lastModifiedBy>
  <dcterms:modified xsi:type="dcterms:W3CDTF">2022-11-13T18:23:44Z</dcterms:modified>
  <cp:revision>155</cp:revision>
  <dc:subject/>
  <dc:title>Урок русского языка в 5-ом классе. Комплексный анализ текста</dc:title>
</cp:coreProperties>
</file>